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162-DC1D-4CDF-8D51-CBC93846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5AA-ED24-416F-A381-C547DC1D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B50-8FF4-412E-AF1B-A5FC1366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109-3BDA-4831-B6FC-80467228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033-4B64-498B-8292-1E268868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14A-B221-4B83-827D-1CF76667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0EB-84EA-4581-BB74-9D90516D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D13-CAE9-4974-BE4E-06124999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4CB-E3E9-426B-9EEC-A6ED0B97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9D0-CAFB-4B6B-832C-7BF06C51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31C-A71B-47D4-A21B-E548E002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8AA-B6F0-4E03-9707-8F1A5B9F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5EEB-FEA2-4138-B53E-1C55BE8DB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empus Sans ITC"/>
              </a:rPr>
              <a:t>By Laura, Georgia, Mitchell and Rya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68580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9840">
                  <a:solidFill>
                    <a:srgbClr val="6600ff"/>
                  </a:solidFill>
                  <a:miter/>
                </a:ln>
                <a:solidFill>
                  <a:srgbClr val="99ff66"/>
                </a:solidFill>
                <a:latin typeface="Broken Toys"/>
              </a:rPr>
              <a:t>Filtered Water</a:t>
            </a:r>
            <a:endParaRPr b="0" lang="en-US" sz="2400" spc="1" strike="noStrike">
              <a:ln w="69840">
                <a:solidFill>
                  <a:srgbClr val="6600ff"/>
                </a:solidFill>
                <a:miter/>
              </a:ln>
              <a:solidFill>
                <a:srgbClr val="99ff66"/>
              </a:solidFill>
              <a:latin typeface="Broken Toys"/>
              <a:ea typeface="Broken Toys"/>
            </a:endParaRPr>
          </a:p>
        </p:txBody>
      </p:sp>
      <p:pic>
        <p:nvPicPr>
          <p:cNvPr id="43" name="BS00966_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484360" cy="204804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  <p:pic>
        <p:nvPicPr>
          <p:cNvPr id="44" name="BS01174_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2438280" cy="189216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0441142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533520" y="228600"/>
            <a:ext cx="731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latin typeface="akaDylan Collage"/>
              </a:rPr>
              <a:t>Where is the Water Located?</a:t>
            </a:r>
            <a:endParaRPr b="0" lang="en-US" sz="2400" spc="1" strike="noStrike">
              <a:ln w="38160">
                <a:solidFill>
                  <a:srgbClr val="33cccc"/>
                </a:solidFill>
                <a:miter/>
              </a:ln>
              <a:solidFill>
                <a:srgbClr val="008080"/>
              </a:solidFill>
              <a:latin typeface="akaDylan Collage"/>
              <a:ea typeface="akaDylan Collage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8381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The water is located all around the world in homes and work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Filter cartri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Drinking g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Bottled water company's {: eg. Mount Franklin :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4331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8600" y="4572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3366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ancy Footwork"/>
              </a:rPr>
              <a:t>Is this water drinkable for humans or animals?</a:t>
            </a:r>
            <a:endParaRPr b="0" lang="en-US" sz="4000" spc="1" strike="noStrike">
              <a:ln w="25560">
                <a:solidFill>
                  <a:srgbClr val="3366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ancy Footwork"/>
              <a:ea typeface="Fancy Footwork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90512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Yes it is because it goes through the Filter and makes it drinkable and takes out all the dirty chemicals!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We know that it is drinkable because the Filter companies sell filters to people that want them so they can clean their water so it is actually drinkab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A02124_" descr=""/>
          <p:cNvPicPr/>
          <p:nvPr/>
        </p:nvPicPr>
        <p:blipFill>
          <a:blip r:embed="rId4"/>
          <a:stretch/>
        </p:blipFill>
        <p:spPr>
          <a:xfrm>
            <a:off x="7315200" y="4876920"/>
            <a:ext cx="13032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BD00045_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3" name="BD00045_" descr=""/>
          <p:cNvPicPr/>
          <p:nvPr/>
        </p:nvPicPr>
        <p:blipFill>
          <a:blip r:embed="rId6"/>
          <a:stretch/>
        </p:blipFill>
        <p:spPr>
          <a:xfrm>
            <a:off x="6248520" y="480060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BD00045_" descr=""/>
          <p:cNvPicPr/>
          <p:nvPr/>
        </p:nvPicPr>
        <p:blipFill>
          <a:blip r:embed="rId7"/>
          <a:stretch/>
        </p:blipFill>
        <p:spPr>
          <a:xfrm>
            <a:off x="4191120" y="5562720"/>
            <a:ext cx="9302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04411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533520"/>
            <a:ext cx="7696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kaDylan Open"/>
              </a:rPr>
              <a:t>Have you tasted your water?</a:t>
            </a:r>
            <a:endParaRPr b="1" lang="en-US" sz="2400" spc="1" strike="noStrike">
              <a:ln w="255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kaDylan Open"/>
              <a:ea typeface="akaDylan Ope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We all have tasted our water and we think it tastes great but really tasted like nothing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The taste is really plain and nothing at all!</a:t>
            </a:r>
            <a:r>
              <a:rPr b="0" lang="en-US" sz="4800" spc="-1" strike="noStrike">
                <a:solidFill>
                  <a:srgbClr val="000000"/>
                </a:solidFill>
                <a:latin typeface="SwingSet BB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j03902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380880"/>
            <a:ext cx="8839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cc"/>
                  </a:solidFill>
                  <a:miter/>
                </a:ln>
                <a:solidFill>
                  <a:srgbClr val="9999ff"/>
                </a:solidFill>
                <a:latin typeface="BlamBlam Heavy BB "/>
              </a:rPr>
              <a:t>Are there any chemicals added to your type of water? </a:t>
            </a:r>
            <a:endParaRPr b="0" lang="en-US" sz="2400" spc="1" strike="noStrike">
              <a:ln w="19080">
                <a:solidFill>
                  <a:srgbClr val="6600cc"/>
                </a:solidFill>
                <a:miter/>
              </a:ln>
              <a:solidFill>
                <a:srgbClr val="9999ff"/>
              </a:solidFill>
              <a:latin typeface="BlamBlam Heavy BB "/>
              <a:ea typeface="BlamBlam Heavy BB 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74320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Tap water doesn't usually have the mud and mould taste, but you cant avoid the chlorine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Filtering tap water doesn't really help it reduces some of the nasty tastes but doesn't get fully rid of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1:06:49Z</dcterms:created>
  <dc:creator>student</dc:creator>
  <dc:description/>
  <dc:language>en-US</dc:language>
  <cp:lastModifiedBy>student</cp:lastModifiedBy>
  <dcterms:modified xsi:type="dcterms:W3CDTF">2009-06-09T05:13:11Z</dcterms:modified>
  <cp:revision>2</cp:revision>
  <dc:subject/>
  <dc:title>PowerPoint Presentation</dc:title>
</cp:coreProperties>
</file>