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893-4FCE-4073-8A63-64E939AD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71D-E264-48C9-B155-295BFA6C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2E7-C8BF-482A-AD42-A4EFFBBE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DAF-DF80-41E3-B21A-59A5246C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BA7C-27A9-491E-866E-0F506F23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D891-28A3-46ED-93C5-F17A8DF6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5B5-6143-4B56-A536-C71BDC5F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F08-87A6-4394-B4EC-52AE3FD7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EE5-8828-42F4-89F6-19CD052C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942-7E11-488E-85C1-067C1089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BC7-4FBB-42D3-97F2-7D792DD7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366-9A0C-4346-85E1-FBFF0040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B205-55E3-4594-8759-D054A5DAF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Tempus Sans ITC"/>
              </a:rPr>
              <a:t>By Laura, Georgia, Mitchell and Rya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685800"/>
            <a:ext cx="82296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9840">
                  <a:solidFill>
                    <a:srgbClr val="6600ff"/>
                  </a:solidFill>
                  <a:miter/>
                </a:ln>
                <a:solidFill>
                  <a:srgbClr val="99ff66"/>
                </a:solidFill>
                <a:latin typeface="Broken Toys"/>
              </a:rPr>
              <a:t>Filtered Water</a:t>
            </a:r>
            <a:endParaRPr b="0" lang="en-US" sz="2400" spc="1" strike="noStrike">
              <a:ln w="69840">
                <a:solidFill>
                  <a:srgbClr val="6600ff"/>
                </a:solidFill>
                <a:miter/>
              </a:ln>
              <a:solidFill>
                <a:srgbClr val="99ff66"/>
              </a:solidFill>
              <a:latin typeface="Broken Toys"/>
              <a:ea typeface="Broken Toys"/>
            </a:endParaRPr>
          </a:p>
        </p:txBody>
      </p:sp>
      <p:pic>
        <p:nvPicPr>
          <p:cNvPr id="43" name="BS00966_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2484360" cy="2048040"/>
          </a:xfrm>
          <a:prstGeom prst="rect">
            <a:avLst/>
          </a:prstGeom>
          <a:ln w="76320">
            <a:solidFill>
              <a:srgbClr val="99ff66"/>
            </a:solidFill>
            <a:miter/>
          </a:ln>
        </p:spPr>
      </p:pic>
      <p:pic>
        <p:nvPicPr>
          <p:cNvPr id="44" name="BS01174_" descr=""/>
          <p:cNvPicPr/>
          <p:nvPr/>
        </p:nvPicPr>
        <p:blipFill>
          <a:blip r:embed="rId2"/>
          <a:stretch/>
        </p:blipFill>
        <p:spPr>
          <a:xfrm>
            <a:off x="304920" y="4648320"/>
            <a:ext cx="2438280" cy="1892160"/>
          </a:xfrm>
          <a:prstGeom prst="rect">
            <a:avLst/>
          </a:prstGeom>
          <a:ln w="76320">
            <a:solidFill>
              <a:srgbClr val="99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j0441142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533520" y="228600"/>
            <a:ext cx="7315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33cccc"/>
                  </a:solidFill>
                  <a:miter/>
                </a:ln>
                <a:solidFill>
                  <a:srgbClr val="008080"/>
                </a:solidFill>
                <a:latin typeface="akaDylan Collage"/>
              </a:rPr>
              <a:t>Where is the Water Located?</a:t>
            </a:r>
            <a:endParaRPr b="0" lang="en-US" sz="2400" spc="1" strike="noStrike">
              <a:ln w="38160">
                <a:solidFill>
                  <a:srgbClr val="33cccc"/>
                </a:solidFill>
                <a:miter/>
              </a:ln>
              <a:solidFill>
                <a:srgbClr val="008080"/>
              </a:solidFill>
              <a:latin typeface="akaDylan Collage"/>
              <a:ea typeface="akaDylan Collage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362320"/>
            <a:ext cx="83818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The water is located all around the world in homes and work pl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*Filter cartrid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*Drinking gla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kaDylan Plain"/>
              </a:rPr>
              <a:t>*Bottled water company's {: eg. Mount Franklin :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04331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28600" y="457200"/>
            <a:ext cx="8686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25560">
                  <a:solidFill>
                    <a:srgbClr val="3366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Fancy Footwork"/>
              </a:rPr>
              <a:t>Is this water drinkable for humans or animals?</a:t>
            </a:r>
            <a:endParaRPr b="0" lang="en-US" sz="4000" spc="1" strike="noStrike">
              <a:ln w="25560">
                <a:solidFill>
                  <a:srgbClr val="3366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Fancy Footwork"/>
              <a:ea typeface="Fancy Footwork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905120"/>
            <a:ext cx="8077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Fairytale"/>
              </a:rPr>
              <a:t>*Yes it is because it goes through the Filter and makes it drinkable and takes out all the dirty chemicals!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Fairytale"/>
              </a:rPr>
              <a:t>*We know that it is drinkable because the Filter companies sell filters to people that want them so they can clean their water so it is actually drinkabl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NA02124_" descr=""/>
          <p:cNvPicPr/>
          <p:nvPr/>
        </p:nvPicPr>
        <p:blipFill>
          <a:blip r:embed="rId4"/>
          <a:stretch/>
        </p:blipFill>
        <p:spPr>
          <a:xfrm>
            <a:off x="7315200" y="4876920"/>
            <a:ext cx="1303200" cy="1801800"/>
          </a:xfrm>
          <a:prstGeom prst="rect">
            <a:avLst/>
          </a:prstGeom>
          <a:ln w="0">
            <a:noFill/>
          </a:ln>
        </p:spPr>
      </p:pic>
      <p:pic>
        <p:nvPicPr>
          <p:cNvPr id="52" name="BD00045_" descr=""/>
          <p:cNvPicPr/>
          <p:nvPr/>
        </p:nvPicPr>
        <p:blipFill>
          <a:blip r:embed="rId5"/>
          <a:stretch/>
        </p:blipFill>
        <p:spPr>
          <a:xfrm>
            <a:off x="5181480" y="5105520"/>
            <a:ext cx="930240" cy="892080"/>
          </a:xfrm>
          <a:prstGeom prst="rect">
            <a:avLst/>
          </a:prstGeom>
          <a:ln w="0">
            <a:noFill/>
          </a:ln>
        </p:spPr>
      </p:pic>
      <p:pic>
        <p:nvPicPr>
          <p:cNvPr id="53" name="BD00045_" descr=""/>
          <p:cNvPicPr/>
          <p:nvPr/>
        </p:nvPicPr>
        <p:blipFill>
          <a:blip r:embed="rId6"/>
          <a:stretch/>
        </p:blipFill>
        <p:spPr>
          <a:xfrm>
            <a:off x="6248520" y="4800600"/>
            <a:ext cx="93024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BD00045_" descr=""/>
          <p:cNvPicPr/>
          <p:nvPr/>
        </p:nvPicPr>
        <p:blipFill>
          <a:blip r:embed="rId7"/>
          <a:stretch/>
        </p:blipFill>
        <p:spPr>
          <a:xfrm>
            <a:off x="4191120" y="5562720"/>
            <a:ext cx="93024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j04411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80880" y="533520"/>
            <a:ext cx="7696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akaDylan Open"/>
              </a:rPr>
              <a:t>Have you tasted your water?</a:t>
            </a:r>
            <a:endParaRPr b="1" lang="en-US" sz="2400" spc="1" strike="noStrike">
              <a:ln w="255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akaDylan Open"/>
              <a:ea typeface="akaDylan Ope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133720"/>
            <a:ext cx="792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wingSet BB"/>
              </a:rPr>
              <a:t>*We all have tasted our water and we think it tastes great but really tasted like nothing!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SwingSet BB"/>
              </a:rPr>
              <a:t>*The taste is really plain and nothing at all!</a:t>
            </a:r>
            <a:r>
              <a:rPr b="0" lang="en-US" sz="4800" spc="-1" strike="noStrike">
                <a:solidFill>
                  <a:srgbClr val="000000"/>
                </a:solidFill>
                <a:latin typeface="SwingSet BB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j039020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04920" y="380880"/>
            <a:ext cx="88390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6600cc"/>
                  </a:solidFill>
                  <a:miter/>
                </a:ln>
                <a:solidFill>
                  <a:srgbClr val="9999ff"/>
                </a:solidFill>
                <a:latin typeface="BlamBlam Heavy BB "/>
              </a:rPr>
              <a:t>Are there any chemicals added to your type of water? </a:t>
            </a:r>
            <a:endParaRPr b="0" lang="en-US" sz="2400" spc="1" strike="noStrike">
              <a:ln w="19080">
                <a:solidFill>
                  <a:srgbClr val="6600cc"/>
                </a:solidFill>
                <a:miter/>
              </a:ln>
              <a:solidFill>
                <a:srgbClr val="9999ff"/>
              </a:solidFill>
              <a:latin typeface="BlamBlam Heavy BB "/>
              <a:ea typeface="BlamBlam Heavy BB 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743200"/>
            <a:ext cx="7391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hailandesa"/>
              </a:rPr>
              <a:t>*Tap water doesn't usually have the mud and mould taste, but you cant avoid the chlorine cont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hailandesa"/>
              </a:rPr>
              <a:t>*Filtering tap water doesn't really help it reduces some of the nasty tastes but doesn't get fully rid of th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1:06:49Z</dcterms:created>
  <dc:creator>student</dc:creator>
  <dc:description/>
  <dc:language>en-US</dc:language>
  <cp:lastModifiedBy>student</cp:lastModifiedBy>
  <dcterms:modified xsi:type="dcterms:W3CDTF">2009-06-09T05:13:11Z</dcterms:modified>
  <cp:revision>2</cp:revision>
  <dc:subject/>
  <dc:title>PowerPoint Presentation</dc:title>
</cp:coreProperties>
</file>