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png" ContentType="image/png"/>
  <Override PartName="/ppt/media/image6.wmf" ContentType="image/x-wmf"/>
  <Override PartName="/ppt/media/image7.wmf" ContentType="image/x-wmf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913F-6213-4461-ACA9-A12DEB784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B7DD-7ADE-47C8-8781-FA2CE116F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0CA8-585D-41DF-B964-41D7169A7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E746-2F8F-42B5-9354-51CD3F2B4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332F-1667-4104-B2BC-D1C6E8180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1694-22CE-4772-A18F-BAE06D4FA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120F-63C1-4802-B185-F992C0481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C05E-29BF-4649-92C4-A58523FBE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9B62-2D55-4328-B068-645200BBA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B058-CDF3-43F7-A2E2-02063BA49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808E-9025-45D9-B9F0-BEB02EDD8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EEB5-432A-4474-9C80-270FFD2FE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F3A8B-C8D6-4A3D-9622-81DBE3A8C2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ff"/>
                </a:solidFill>
                <a:latin typeface="Tempus Sans ITC"/>
              </a:rPr>
              <a:t>By Laura, Georgia, Mitchell and Ryan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09480" y="685800"/>
            <a:ext cx="822960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69840">
                  <a:solidFill>
                    <a:srgbClr val="6600ff"/>
                  </a:solidFill>
                  <a:miter/>
                </a:ln>
                <a:solidFill>
                  <a:srgbClr val="99ff66"/>
                </a:solidFill>
                <a:latin typeface="Broken Toys"/>
              </a:rPr>
              <a:t>Filtered Water</a:t>
            </a:r>
            <a:endParaRPr b="0" lang="en-US" sz="2400" spc="1" strike="noStrike">
              <a:ln w="69840">
                <a:solidFill>
                  <a:srgbClr val="6600ff"/>
                </a:solidFill>
                <a:miter/>
              </a:ln>
              <a:solidFill>
                <a:srgbClr val="99ff66"/>
              </a:solidFill>
              <a:latin typeface="Broken Toys"/>
              <a:ea typeface="Broken Toys"/>
            </a:endParaRPr>
          </a:p>
        </p:txBody>
      </p:sp>
      <p:pic>
        <p:nvPicPr>
          <p:cNvPr id="43" name="BS00966_" descr=""/>
          <p:cNvPicPr/>
          <p:nvPr/>
        </p:nvPicPr>
        <p:blipFill>
          <a:blip r:embed="rId1"/>
          <a:stretch/>
        </p:blipFill>
        <p:spPr>
          <a:xfrm>
            <a:off x="6248520" y="4572000"/>
            <a:ext cx="2484360" cy="2048040"/>
          </a:xfrm>
          <a:prstGeom prst="rect">
            <a:avLst/>
          </a:prstGeom>
          <a:ln w="76320">
            <a:solidFill>
              <a:srgbClr val="99ff66"/>
            </a:solidFill>
            <a:miter/>
          </a:ln>
        </p:spPr>
      </p:pic>
      <p:pic>
        <p:nvPicPr>
          <p:cNvPr id="44" name="BS01174_" descr=""/>
          <p:cNvPicPr/>
          <p:nvPr/>
        </p:nvPicPr>
        <p:blipFill>
          <a:blip r:embed="rId2"/>
          <a:stretch/>
        </p:blipFill>
        <p:spPr>
          <a:xfrm>
            <a:off x="304920" y="4648320"/>
            <a:ext cx="2438280" cy="1892160"/>
          </a:xfrm>
          <a:prstGeom prst="rect">
            <a:avLst/>
          </a:prstGeom>
          <a:ln w="76320">
            <a:solidFill>
              <a:srgbClr val="99ff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j0441142" descr="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3244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  <p:sp>
        <p:nvSpPr>
          <p:cNvPr id="46" name=""/>
          <p:cNvSpPr txBox="1"/>
          <p:nvPr/>
        </p:nvSpPr>
        <p:spPr>
          <a:xfrm>
            <a:off x="533520" y="228600"/>
            <a:ext cx="73152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33cccc"/>
                  </a:solidFill>
                  <a:miter/>
                </a:ln>
                <a:solidFill>
                  <a:srgbClr val="008080"/>
                </a:solidFill>
                <a:latin typeface="akaDylan Collage"/>
              </a:rPr>
              <a:t>Where is the Water Located?</a:t>
            </a:r>
            <a:endParaRPr b="0" lang="en-US" sz="2400" spc="1" strike="noStrike">
              <a:ln w="38160">
                <a:solidFill>
                  <a:srgbClr val="33cccc"/>
                </a:solidFill>
                <a:miter/>
              </a:ln>
              <a:solidFill>
                <a:srgbClr val="008080"/>
              </a:solidFill>
              <a:latin typeface="akaDylan Collage"/>
              <a:ea typeface="akaDylan Collage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2362320"/>
            <a:ext cx="838188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kaDylan Plain"/>
              </a:rPr>
              <a:t>The water is located all around the world in homes and work pla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kaDylan Plain"/>
              </a:rPr>
              <a:t>*Filter cartridg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kaDylan Plain"/>
              </a:rPr>
              <a:t>*Drinking glas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kaDylan Plain"/>
              </a:rPr>
              <a:t>*Bottled water company's {: eg. Mount Franklin :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j043316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228600" y="457200"/>
            <a:ext cx="86868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25560">
                  <a:solidFill>
                    <a:srgbClr val="3366ff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Fancy Footwork"/>
              </a:rPr>
              <a:t>Is this water drinkable for humans or animals?</a:t>
            </a:r>
            <a:endParaRPr b="0" lang="en-US" sz="4000" spc="1" strike="noStrike">
              <a:ln w="25560">
                <a:solidFill>
                  <a:srgbClr val="3366ff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Fancy Footwork"/>
              <a:ea typeface="Fancy Footwork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1905120"/>
            <a:ext cx="80773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Fairytale"/>
              </a:rPr>
              <a:t>*Yes it is because it goes through the Filter and makes it drinkable and takes out all the dirty chemicals!</a:t>
            </a:r>
            <a:br>
              <a:rPr sz="3200"/>
            </a:br>
            <a:r>
              <a:rPr b="1" lang="en-US" sz="3200" spc="-1" strike="noStrike">
                <a:solidFill>
                  <a:srgbClr val="6600cc"/>
                </a:solidFill>
                <a:latin typeface="Fairytale"/>
              </a:rPr>
              <a:t>*We know that it is drinkable because the Filter companies sell filters to people that want them so they can clean their water so it is actually drinkabl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NA02124_" descr=""/>
          <p:cNvPicPr/>
          <p:nvPr/>
        </p:nvPicPr>
        <p:blipFill>
          <a:blip r:embed="rId4"/>
          <a:stretch/>
        </p:blipFill>
        <p:spPr>
          <a:xfrm>
            <a:off x="7315200" y="4876920"/>
            <a:ext cx="1303200" cy="1801800"/>
          </a:xfrm>
          <a:prstGeom prst="rect">
            <a:avLst/>
          </a:prstGeom>
          <a:ln w="0">
            <a:noFill/>
          </a:ln>
        </p:spPr>
      </p:pic>
      <p:pic>
        <p:nvPicPr>
          <p:cNvPr id="52" name="BD00045_" descr=""/>
          <p:cNvPicPr/>
          <p:nvPr/>
        </p:nvPicPr>
        <p:blipFill>
          <a:blip r:embed="rId5"/>
          <a:stretch/>
        </p:blipFill>
        <p:spPr>
          <a:xfrm>
            <a:off x="5181480" y="5105520"/>
            <a:ext cx="930240" cy="892080"/>
          </a:xfrm>
          <a:prstGeom prst="rect">
            <a:avLst/>
          </a:prstGeom>
          <a:ln w="0">
            <a:noFill/>
          </a:ln>
        </p:spPr>
      </p:pic>
      <p:pic>
        <p:nvPicPr>
          <p:cNvPr id="53" name="BD00045_" descr=""/>
          <p:cNvPicPr/>
          <p:nvPr/>
        </p:nvPicPr>
        <p:blipFill>
          <a:blip r:embed="rId6"/>
          <a:stretch/>
        </p:blipFill>
        <p:spPr>
          <a:xfrm>
            <a:off x="6248520" y="4800600"/>
            <a:ext cx="930240" cy="892080"/>
          </a:xfrm>
          <a:prstGeom prst="rect">
            <a:avLst/>
          </a:prstGeom>
          <a:ln w="0">
            <a:noFill/>
          </a:ln>
        </p:spPr>
      </p:pic>
      <p:pic>
        <p:nvPicPr>
          <p:cNvPr id="54" name="BD00045_" descr=""/>
          <p:cNvPicPr/>
          <p:nvPr/>
        </p:nvPicPr>
        <p:blipFill>
          <a:blip r:embed="rId7"/>
          <a:stretch/>
        </p:blipFill>
        <p:spPr>
          <a:xfrm>
            <a:off x="4191120" y="5562720"/>
            <a:ext cx="930240" cy="8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j044116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380880" y="533520"/>
            <a:ext cx="76964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ff00ff"/>
                  </a:solidFill>
                  <a:miter/>
                </a:ln>
                <a:solidFill>
                  <a:srgbClr val="000000"/>
                </a:solidFill>
                <a:latin typeface="akaDylan Open"/>
              </a:rPr>
              <a:t>Have you tasted your water?</a:t>
            </a:r>
            <a:endParaRPr b="1" lang="en-US" sz="2400" spc="1" strike="noStrike">
              <a:ln w="25560">
                <a:solidFill>
                  <a:srgbClr val="ff00ff"/>
                </a:solidFill>
                <a:miter/>
              </a:ln>
              <a:solidFill>
                <a:srgbClr val="000000"/>
              </a:solidFill>
              <a:latin typeface="akaDylan Open"/>
              <a:ea typeface="akaDylan Ope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2133720"/>
            <a:ext cx="79250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SwingSet BB"/>
              </a:rPr>
              <a:t>*We all have tasted our water and we think it tastes great but really tasted like nothing!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SwingSet BB"/>
              </a:rPr>
              <a:t>*The taste is really plain and nothing at all!</a:t>
            </a:r>
            <a:r>
              <a:rPr b="0" lang="en-US" sz="4800" spc="-1" strike="noStrike">
                <a:solidFill>
                  <a:srgbClr val="000000"/>
                </a:solidFill>
                <a:latin typeface="SwingSet BB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j039020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304920" y="380880"/>
            <a:ext cx="883908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6600cc"/>
                  </a:solidFill>
                  <a:miter/>
                </a:ln>
                <a:solidFill>
                  <a:srgbClr val="9999ff"/>
                </a:solidFill>
                <a:latin typeface="BlamBlam Heavy BB "/>
              </a:rPr>
              <a:t>Are there any chemicals added to your type of water? </a:t>
            </a:r>
            <a:endParaRPr b="0" lang="en-US" sz="2400" spc="1" strike="noStrike">
              <a:ln w="19080">
                <a:solidFill>
                  <a:srgbClr val="6600cc"/>
                </a:solidFill>
                <a:miter/>
              </a:ln>
              <a:solidFill>
                <a:srgbClr val="9999ff"/>
              </a:solidFill>
              <a:latin typeface="BlamBlam Heavy BB "/>
              <a:ea typeface="BlamBlam Heavy BB "/>
            </a:endParaRPr>
          </a:p>
        </p:txBody>
      </p:sp>
      <p:sp>
        <p:nvSpPr>
          <p:cNvPr id="60" name=""/>
          <p:cNvSpPr/>
          <p:nvPr/>
        </p:nvSpPr>
        <p:spPr>
          <a:xfrm>
            <a:off x="838080" y="1905120"/>
            <a:ext cx="746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2743200"/>
            <a:ext cx="739152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hailandesa"/>
              </a:rPr>
              <a:t>*Tap water doesn't usually have the mud and mould taste, but you cant avoid the chlorine cont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hailandesa"/>
              </a:rPr>
              <a:t>*Filtering tap water doesn't really help it reduces some of the nasty tastes but doesn't get fully rid of them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5T01:06:49Z</dcterms:created>
  <dc:creator>student</dc:creator>
  <dc:description/>
  <dc:language>en-US</dc:language>
  <cp:lastModifiedBy>student</cp:lastModifiedBy>
  <dcterms:modified xsi:type="dcterms:W3CDTF">2009-06-09T05:13:11Z</dcterms:modified>
  <cp:revision>2</cp:revision>
  <dc:subject/>
  <dc:title>PowerPoint Presentation</dc:title>
</cp:coreProperties>
</file>